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230-7703-4677-8388-5047D594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4E7D-39BB-4DBF-9CB7-A5AB7EF7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6A8E-AE49-4582-B1B9-632CE583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789-7861-4B23-BD7A-65EB7009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7F0-2FE4-4E29-AC8D-5EDD5F47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980D-EB20-4D41-8C57-B6824737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891A-54D4-4C38-A485-780C277E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2B9C-DDA4-4583-88D9-56CDB50C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1A82-F36D-4EB6-AF48-77E9BDD5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A1C1-21FB-4D77-9FFF-F1745D9F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CD6F-EEA8-460B-AA9B-52ED384A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1C21-852B-4162-8C6B-0A647913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C4E0-B3F1-477C-98CB-A01699E8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42F6-5C0D-4E0D-AB6F-EDCF474A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7E19-DBBF-4B46-A0A1-7BB38C8D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3497-B973-489F-ADEB-57E40D3D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8049-ABA1-41B1-881B-D36CB0FF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37C3-3142-4302-8BFB-D5012561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53C0-89BA-4071-AD15-3BB07757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DF961-1DD4-4A85-B959-7D7D54E2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126-83CB-4F22-8358-C477653C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C8242-17C1-419F-AD50-FC9CF146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2E4CC-B217-4A76-A499-CD23611C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66FDF-5F67-4EA6-80EF-052D8198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07A09-6282-409E-BE51-95566A05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CCF93-8E74-496E-8E1B-802DC62D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F217-8A49-4219-B0F9-0F19F70E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12E05-802D-4E33-B759-6F4896E0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12EB7-F952-4607-8967-84194AE0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010A0-7FFB-4C67-A55A-7C41E8F4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5BAE4-0FFD-42BD-B83A-38F160C3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D520-0C32-4350-93B7-2788EFA8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71A96-FD71-4A02-80AE-A8A64BEB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44578-129D-49D8-AD3F-250D5833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13719-2DF2-4BAC-BE05-C5DF6A29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F2CFB-9B4B-4AC5-84D9-705345BC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BDCCB-EA5C-44BD-A5B3-3FC2CFA2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AD575-8A68-4276-A92C-C0FA7E5B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5E8DF-3ACA-450F-8E18-4032D3EB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96DF5-5B0B-4B10-B19B-609EB53A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EC137-2FBA-44EC-A6B2-E3D28E4C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1B3E3-8399-4784-8C13-86F4707B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4DC-CA3B-4747-B61F-81F15414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B8859-F48B-4ED7-8E9C-9AF2C6B5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7DB26-CE0E-4C38-B23D-2AC68092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81995-DC52-463A-B5F3-01EB9184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90B6-4649-409D-AA0E-E61FA7F2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4051-FA8E-432E-82B2-EF766DB7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CCA89D0B-3076-4457-A54F-4C31C6478325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2BB374EE-F823-47CD-AB00-855D7F70AF32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4F70B52C-7520-47AA-9D34-B67C57B10DBB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FC03CE95-FF5B-4FFC-91D2-865311617642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ymień objawy ataku padaczki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98000"/>
          </a:bodyPr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Np.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ślinotok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drgawki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drętwienie ciała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szczękościsk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utrata kontroli nad zwieraczami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niepamięć wsteczna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senność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42:1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